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wmf" ContentType="image/x-wmf"/>
  <Override PartName="/ppt/media/image9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3.wmf" ContentType="image/x-wmf"/>
  <Override PartName="/ppt/media/image8.wmf" ContentType="image/x-wmf"/>
  <Override PartName="/ppt/media/image22.wmf" ContentType="image/x-wmf"/>
  <Override PartName="/ppt/media/image20.wmf" ContentType="image/x-wmf"/>
  <Override PartName="/ppt/media/image18.gif" ContentType="image/gif"/>
  <Override PartName="/ppt/media/image4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16.wmf" ContentType="image/x-wmf"/>
  <Override PartName="/ppt/media/image5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4FDF-4430-4E6A-9B6E-729B615D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F41-BFBC-416C-A158-F3BE1641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FB53-FDB8-4E4C-BB22-5168CA41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AB2E-7162-42B3-B49A-A18052E5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2353-7CB0-4495-8D41-B161954B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7AB1-250E-4CCC-91A8-61D4346B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CE2F-8163-4F35-B8F2-F9ACECA3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06E5-F3CC-4748-B3C8-D5367E46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D496-83E5-4324-A2C0-06B060B2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92BE-9330-40D2-9477-A893F4E3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1F17-351A-4E1B-A1DE-AEBF3B61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3847-ABB9-40C8-946B-71C2F8B8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D14E-C2C7-4CE1-8432-DE723677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95BC-EE69-496D-87FA-46A8BF7E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253D-5FB3-498C-BD0D-FF67BA8D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8C5C-46C9-489C-B73C-613EB207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BDB2-A4BC-4F6E-842A-7A946D75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EBCA2-C1FB-47CB-A472-78844521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3F409-7A7D-4C0D-BD06-09DCE294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14820-3ACE-4833-B99D-C19FB909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C9712-719B-4505-B2FB-F8EF3D5F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25378-4EDB-498A-81E1-DE93AFBE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2615-10FA-4394-94FD-2FEB2328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7DBA5-BDF1-4A78-A7CC-59CB5DA7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EABAF-E7AA-4070-ACC8-9AC9C470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B779C-951E-48CB-8C73-9EC8D6D3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63997C-E1CC-452E-87DA-BE6B0FCE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0EBA6-1263-4EED-9973-A1284F70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EA6D24-7A58-4079-AA02-150ECB48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DD7FC-9DD2-4335-BD62-4049A241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DDE98-B0DB-4875-AB47-76E13604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AA450-1B90-457B-AEC8-5D424353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7672C-295C-4398-9618-C4F30DC4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B6AD-B4CE-442D-9BF8-502AE839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79F6D-188C-4143-A9AA-778B3774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00288-B868-4EBC-B33B-D02EBE27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20067-4ABA-4001-941E-39AD8CD0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84674-A1EA-49AA-A0F7-BCB80F81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9B588-2E98-4AF4-9436-2458FE57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6A283-A7AC-40F4-B4B5-53A8FF7E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2C94C-3D43-4968-998B-9688EAD4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4E869-EDD9-4656-834D-B116F3AA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99E0A-80A3-44A7-BEA2-02324BDE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1BF26-4F06-4D32-998F-EC397EE2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31A-B59D-4B36-85A0-873CDA89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1DB61-7308-4017-B343-0A9C8520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1AB90-7C10-47B7-8F3F-06984D12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0AFDC-D19F-4B83-90DA-EA6B306A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3553A-E977-467D-B88E-B1D7396F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A2595-A939-4FA3-9249-812ED070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7D99D-F289-4165-A619-2C1AFCC9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52922-28BC-461E-A8FC-56454AB6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F6A03-C354-4F2C-8C31-586F0E8E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40E28-F5CF-404A-AED6-64035B86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573AF-1635-4870-BAC8-28CF841C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486-A4A7-476F-B051-683D3AC1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FEE3F-8530-4977-8030-861CB2E1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7C37B-3BB8-4621-B258-CC40394B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313C8-5D8C-46FF-9773-1910A832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F6F40-378A-4789-BFF9-941A9F41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025DC-F7C0-41C0-8115-D6A4CFDE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6F963-BCA7-4DFB-9450-FFF4C6B6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F2425-79DA-4432-96BB-6E26CAEA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D531E-90B8-4F50-9F8D-1A248605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B350A-17F5-4869-B270-9EC132B7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CD63D-E2F4-4253-8E87-EA0CD44F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152-6178-411B-A9F1-36CE3CCC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7EC05-0BAF-4F8F-A5D1-739A4FEE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C6AA5-AAE1-46F2-9876-0B9C9726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C71EE-0A65-4D6F-BF4F-99EAC2AA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282C3-0975-47DB-AF80-98EB5278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4E177-7E92-4E7F-A8F6-5E50E945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71B78-8C70-409D-9F57-D2A56ED1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0911D-CD39-499D-8529-A92830A8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58E67-D380-4DA6-93D4-38995C85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81D53-4F1A-4816-8DD2-DF0BCBC1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CECFB-C968-4FF7-B5C4-67579A80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C4AE-176C-4AD0-8B0F-BC07BF25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4C221-B10C-4579-9520-14A93EFC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A92A4-6F77-4A16-A018-41EE06CA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CCCE6-88CD-4FDF-967B-480A5D26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937F6-4506-4995-8239-400F8FF3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BB47A-6378-4A5C-BCD5-3FD159E7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31D2-0575-4109-B629-5F0F65C1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E21E-9449-41B9-AE6C-CD15461A75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0382-0CCE-4F7B-B472-2F20AA786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EE15-6E96-497E-A1E2-8EEBB6AD1D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77c8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6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38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50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69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87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95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8759-71D4-4A61-A663-C2859D95D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79F0-1ACD-4CC1-8D1E-2FD488FCCD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8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8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542D-7EAB-4C0D-823E-0943E7FEE2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33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35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47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66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84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92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82C8-8749-455D-A3CA-B730FEF2E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gi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MATTER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3 STATES OF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WATER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1828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B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DeAnn Gro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88423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A liquid changes to water vapor when it you add heat or it gets warmer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2" descr="j0196458[1]"/>
          <p:cNvPicPr/>
          <p:nvPr/>
        </p:nvPicPr>
        <p:blipFill>
          <a:blip r:embed="rId2"/>
          <a:stretch/>
        </p:blipFill>
        <p:spPr>
          <a:xfrm>
            <a:off x="1905120" y="2054160"/>
            <a:ext cx="5257800" cy="46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3" dur="5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Comic Sans MS"/>
              </a:rPr>
              <a:t>Water in our world.</a:t>
            </a:r>
            <a:br>
              <a:rPr sz="4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t’s all around us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78" name="Picture 13" descr="j0199719"/>
          <p:cNvPicPr/>
          <p:nvPr/>
        </p:nvPicPr>
        <p:blipFill>
          <a:blip r:embed="rId1"/>
          <a:stretch/>
        </p:blipFill>
        <p:spPr>
          <a:xfrm>
            <a:off x="538200" y="1752480"/>
            <a:ext cx="2846520" cy="28958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5" descr="j0237936"/>
          <p:cNvPicPr/>
          <p:nvPr/>
        </p:nvPicPr>
        <p:blipFill>
          <a:blip r:embed="rId2"/>
          <a:stretch/>
        </p:blipFill>
        <p:spPr>
          <a:xfrm>
            <a:off x="3809880" y="2362320"/>
            <a:ext cx="2063880" cy="263340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6"/>
          <p:cNvSpPr/>
          <p:nvPr/>
        </p:nvSpPr>
        <p:spPr>
          <a:xfrm>
            <a:off x="137160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 who knows what state it may be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19" descr="j0233110"/>
          <p:cNvPicPr/>
          <p:nvPr/>
        </p:nvPicPr>
        <p:blipFill>
          <a:blip r:embed="rId3"/>
          <a:stretch/>
        </p:blipFill>
        <p:spPr>
          <a:xfrm>
            <a:off x="6172200" y="1905120"/>
            <a:ext cx="2666880" cy="2816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050"/>
                </a:solidFill>
                <a:latin typeface="Comic Sans MS"/>
              </a:rPr>
              <a:t>Liquid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842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n we think of water, we usually think of water as a liquid.  A liquid will take the shape of whatever container it is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27"/>
          <p:cNvSpPr/>
          <p:nvPr/>
        </p:nvSpPr>
        <p:spPr>
          <a:xfrm>
            <a:off x="457200" y="380988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8"/>
          <p:cNvSpPr/>
          <p:nvPr/>
        </p:nvSpPr>
        <p:spPr>
          <a:xfrm>
            <a:off x="228600" y="37339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e drink liquid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44" descr="AN03487_[1]"/>
          <p:cNvPicPr/>
          <p:nvPr/>
        </p:nvPicPr>
        <p:blipFill>
          <a:blip r:embed="rId2"/>
          <a:stretch/>
        </p:blipFill>
        <p:spPr>
          <a:xfrm>
            <a:off x="4648320" y="3048120"/>
            <a:ext cx="1828800" cy="182700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46"/>
          <p:cNvSpPr/>
          <p:nvPr/>
        </p:nvSpPr>
        <p:spPr>
          <a:xfrm>
            <a:off x="1828800" y="54100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e swim in liquid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7" descr="j0296998"/>
          <p:cNvPicPr/>
          <p:nvPr/>
        </p:nvPicPr>
        <p:blipFill>
          <a:blip r:embed="rId3"/>
          <a:stretch/>
        </p:blipFill>
        <p:spPr>
          <a:xfrm>
            <a:off x="5486400" y="5105520"/>
            <a:ext cx="2743200" cy="139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01680" y="457200"/>
            <a:ext cx="419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e wash in wate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j0250569"/>
          <p:cNvPicPr/>
          <p:nvPr/>
        </p:nvPicPr>
        <p:blipFill>
          <a:blip r:embed="rId2"/>
          <a:stretch/>
        </p:blipFill>
        <p:spPr>
          <a:xfrm>
            <a:off x="5257800" y="609480"/>
            <a:ext cx="2430360" cy="18874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7" descr="j0281330"/>
          <p:cNvPicPr/>
          <p:nvPr/>
        </p:nvPicPr>
        <p:blipFill>
          <a:blip r:embed="rId3"/>
          <a:stretch/>
        </p:blipFill>
        <p:spPr>
          <a:xfrm>
            <a:off x="457200" y="2514600"/>
            <a:ext cx="2089080" cy="20829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3" descr="j0127455[1]"/>
          <p:cNvPicPr/>
          <p:nvPr/>
        </p:nvPicPr>
        <p:blipFill>
          <a:blip r:embed="rId4"/>
          <a:stretch/>
        </p:blipFill>
        <p:spPr>
          <a:xfrm>
            <a:off x="2982960" y="3276720"/>
            <a:ext cx="2225520" cy="31226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7" descr="j0233850"/>
          <p:cNvPicPr/>
          <p:nvPr/>
        </p:nvPicPr>
        <p:blipFill>
          <a:blip r:embed="rId5"/>
          <a:stretch/>
        </p:blipFill>
        <p:spPr>
          <a:xfrm>
            <a:off x="6400800" y="3581280"/>
            <a:ext cx="1407960" cy="2060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7851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Liquid water fills our lakes and river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Picture 9" descr="j0229153[1]"/>
          <p:cNvPicPr/>
          <p:nvPr/>
        </p:nvPicPr>
        <p:blipFill>
          <a:blip r:embed="rId2"/>
          <a:stretch/>
        </p:blipFill>
        <p:spPr>
          <a:xfrm>
            <a:off x="4343400" y="2214720"/>
            <a:ext cx="4267080" cy="31953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6" descr="j0150017"/>
          <p:cNvPicPr/>
          <p:nvPr/>
        </p:nvPicPr>
        <p:blipFill>
          <a:blip r:embed="rId3"/>
          <a:stretch/>
        </p:blipFill>
        <p:spPr>
          <a:xfrm>
            <a:off x="609480" y="2971800"/>
            <a:ext cx="2894040" cy="2135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050"/>
                </a:solidFill>
                <a:latin typeface="Comic Sans MS"/>
              </a:rPr>
              <a:t>Solid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ids hold their shap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9" descr="j0323744"/>
          <p:cNvPicPr/>
          <p:nvPr/>
        </p:nvPicPr>
        <p:blipFill>
          <a:blip r:embed="rId2"/>
          <a:stretch/>
        </p:blipFill>
        <p:spPr>
          <a:xfrm>
            <a:off x="380880" y="3429000"/>
            <a:ext cx="5029200" cy="318600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8"/>
          <p:cNvSpPr/>
          <p:nvPr/>
        </p:nvSpPr>
        <p:spPr>
          <a:xfrm>
            <a:off x="5562720" y="3429000"/>
            <a:ext cx="327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ce and snow are examples of water in the solid st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11" descr="EN00275_[1]"/>
          <p:cNvPicPr/>
          <p:nvPr/>
        </p:nvPicPr>
        <p:blipFill>
          <a:blip r:embed="rId3"/>
          <a:stretch/>
        </p:blipFill>
        <p:spPr>
          <a:xfrm>
            <a:off x="6248520" y="1676520"/>
            <a:ext cx="1746000" cy="1455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050"/>
                </a:solidFill>
                <a:latin typeface="Comic Sans MS"/>
              </a:rPr>
              <a:t>Water vapor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Water vapor is an invisible gas that is always in the air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533520" y="39625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ouds are made of water vap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16" descr="j0078727[1]"/>
          <p:cNvPicPr/>
          <p:nvPr/>
        </p:nvPicPr>
        <p:blipFill>
          <a:blip r:embed="rId2"/>
          <a:stretch/>
        </p:blipFill>
        <p:spPr>
          <a:xfrm>
            <a:off x="5105520" y="4038480"/>
            <a:ext cx="3655800" cy="2522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680" y="380520"/>
            <a:ext cx="8842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eam floating up from the sidewalk after the rain or from a hot bowl of soup is water vap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5746680" y="1676520"/>
          <a:ext cx="1997280" cy="213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46680" y="1676520"/>
                    <a:ext cx="199728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7" name="Picture 15" descr="j0350268"/>
          <p:cNvPicPr/>
          <p:nvPr/>
        </p:nvPicPr>
        <p:blipFill>
          <a:blip r:embed="rId4"/>
          <a:stretch/>
        </p:blipFill>
        <p:spPr>
          <a:xfrm>
            <a:off x="2666880" y="1447920"/>
            <a:ext cx="4810320" cy="472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050"/>
                </a:solidFill>
                <a:latin typeface="Comic Sans MS"/>
              </a:rPr>
              <a:t>                 </a:t>
            </a:r>
            <a:r>
              <a:rPr b="0" lang="en-US" sz="4200" spc="-1" strike="noStrike">
                <a:solidFill>
                  <a:srgbClr val="003050"/>
                </a:solidFill>
                <a:latin typeface="Comic Sans MS"/>
              </a:rPr>
              <a:t>CHANGES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-1524240" y="1676520"/>
            <a:ext cx="10667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20098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ater can change from one state to another by adding or subtracting hea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0" name="Picture 13" descr="j0346827"/>
          <p:cNvPicPr/>
          <p:nvPr/>
        </p:nvPicPr>
        <p:blipFill>
          <a:blip r:embed="rId2"/>
          <a:stretch/>
        </p:blipFill>
        <p:spPr>
          <a:xfrm>
            <a:off x="4572000" y="3581280"/>
            <a:ext cx="2514600" cy="244332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17"/>
          <p:cNvSpPr/>
          <p:nvPr/>
        </p:nvSpPr>
        <p:spPr>
          <a:xfrm>
            <a:off x="533520" y="3733920"/>
            <a:ext cx="419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solid changes to a liquid when heat is add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liquid changes to a solid when you take away heat, or it gets col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4" descr="j0288940"/>
          <p:cNvPicPr/>
          <p:nvPr/>
        </p:nvPicPr>
        <p:blipFill>
          <a:blip r:embed="rId1"/>
          <a:stretch/>
        </p:blipFill>
        <p:spPr>
          <a:xfrm>
            <a:off x="4941720" y="1905120"/>
            <a:ext cx="3694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23:00:02Z</dcterms:created>
  <dc:creator>Inst </dc:creator>
  <dc:description/>
  <dc:language>en-US</dc:language>
  <cp:lastModifiedBy>teacher</cp:lastModifiedBy>
  <dcterms:modified xsi:type="dcterms:W3CDTF">2011-04-29T01:31:43Z</dcterms:modified>
  <cp:revision>9</cp:revision>
  <dc:subject/>
  <dc:title>WATER IN OUR WORLD</dc:title>
</cp:coreProperties>
</file>